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A73-DCF8-4702-8043-0467B8C4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1D0-62B9-4578-B8F2-03F34684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3A594-7439-4B67-BCDC-1538B6EC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3CB76-67DA-483B-ADA0-0B249909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3A784-7B27-4DCC-852C-EFF48E22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483D0-BF4D-4D6F-A329-EEDCD64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00D9B-66C4-482A-998A-BEEA9302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27888-24DA-4D79-829D-4EBCBD5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7D164-AC57-4402-83DC-31E99BDE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57A28-846C-40F4-8B0E-B683643A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7B98E-CF76-4408-ACED-BA3E4058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BD5DF-5DDD-4ECC-98D9-3C23C4A1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FDA-D63D-469E-B332-36659693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9C4F4-8C85-4488-89DD-23249B1A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288FB-574C-475B-9611-6744BD90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3F0C7-F5E4-4F18-94B5-BFF68D0E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14AA0-6C1B-4752-A9A2-3BD1C7DC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37A3F-26A6-41EA-8ECC-D3EE4D8B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AE946-1AA4-4C7C-AEB4-B010761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0CDB5-BE0C-42D3-A9B1-AA9CD127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C1A20-D653-4FB2-9D50-B41EDCE8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0EB4A-39E3-441B-9E84-01656558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C15E9-7638-4AED-94CE-AC711054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1B8-77FD-4192-A09F-FDCEA34C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B29D1-4916-49E5-B760-C93DA2A3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875B2-E3A1-4439-8338-80FE128A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62CAD-8458-4EDC-A6D7-B73267D9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2E1F4-D9B5-4345-88D6-8D4A1F87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9166D-8311-4759-B486-1696E14B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B4955-F426-414B-8D3D-48E34028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6B722-3CB9-40EB-9BA8-4E5AB38C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0F6BB-85CD-4BFF-B1DA-1D4BDD0B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8DD2F-204C-43A8-A4CC-3625A931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B2207-9071-4D59-B3ED-E6CC9BA4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CEA-954E-4D88-91B8-3B5745C1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6A7CB-3455-4094-AC89-8B6E6092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E0128-7843-43EF-A82D-32834FA7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7480C-9995-473F-9E26-AD793395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95FF6-9C78-4F60-A95D-D0134735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8B7B9-5C5B-4F20-8156-A7E6F7DB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17FB3-0AFB-45F1-9739-C3302B71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22C1B-3DBB-4E48-8043-C740F724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84B6B-9B5A-49C1-9EF4-5AC7B14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2CC1A-0ACC-49A7-92F7-9E718A16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8B2AA-AA34-4F21-ACAD-26FB78E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4009-2F1C-4054-8855-ACEA02BE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FB4B6-701E-4FD8-AFD5-349EA2D0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9F85B-B0E9-4287-903B-FF6475B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DED07-4540-4342-92B4-2B2DCBC3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D2843-0ED1-4FA9-B5BB-5D0CAB5A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EC77D-95E6-4119-A39E-4AE3F460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DD367-B919-44B0-BC99-FAC6443C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BA21F-49CC-474E-94C2-6BCCED8D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2117F-3DE5-4BBC-AB49-55C7B1FF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C7B88-64C4-4501-8AA8-2A00AAF7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922A6-2D49-41DE-9D76-AF7C7369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163-CD0B-4D33-BB14-828A70A8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50BAE-2A53-41EE-92C2-F7DBAA47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DB758-F1FF-4424-BB6F-1E95BCF5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F072D-50CA-47DF-97A7-C96DE09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DB04E-8999-4D5D-A85B-4A669BD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DA36A-F5A6-4EB5-B1A4-F0E9AC32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AE6E5-7CF5-49EA-9F24-6AF8C750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6EFFB-2382-4DAC-8521-07CB756E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43F45-CE87-44BF-BF00-A038D27D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79311-3EF6-47C4-9F06-7BAF0392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86ABD-5260-485C-BB33-BEAF3C75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0FFD-66D0-4ACC-B3D3-E0883414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0E740-360C-4ECD-A1B6-3B8048D1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0682B-EB2B-4C59-9855-CD56FD89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9201D-3F2D-412D-8C28-435E2419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E8A77-6DC6-4B2B-A1DE-BC34F747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5F237-6E03-4318-AA69-E4ABBBFD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80E78-E15C-4D62-9181-72DCA327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166C5-8EFE-483A-A95D-32B616C9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A205E-723A-43A7-8A9F-A799766C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4093A-95AD-4BFF-AE03-61B4CD0A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7B294-FBBC-45AC-9D45-BF39E4C9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8DC6-35DF-4E3A-9915-05B2B643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260AA-9ED5-4E24-A3F7-77AAD9AD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55250-724B-40AE-B2D7-84A92FD2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BC0CC-8E22-4DCD-A1ED-D760D6F8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A9E93-EB29-494A-858A-FFE08FC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0B389-18B6-4DDE-B58B-A07BFD1E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9338C-A173-4E7A-A923-8ECAEBC3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9CA99-FA44-4569-AC0A-26A379A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1B8F9-E891-49F2-A5B1-E73CC12E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60E2F-C6B7-4C22-8BB2-2A1FBFEE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CB011-2545-4660-A3D5-80B28407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43C9-51D5-4ED9-AB4E-DDC9DC54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EBD45-D917-4158-8933-B2A1784E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B260F-4936-470E-9D41-A5D3F556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4D3EA-A2C1-4449-9889-264566A1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9AD65-854B-4ADB-948D-95185A8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77750-B3CA-449A-A0B2-29C882E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1EF77-9F86-4B61-AA50-E81C4380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AE640-F5ED-4058-8CDF-19EDE901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CA1C6-2BBB-4134-A212-5D72EADC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10B13-3B73-4127-BB78-032B813E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17212-3E9B-406C-9379-260E3708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3005-94E9-49CD-B470-62358378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1F992-9093-4326-9002-B71633B9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5589F-7EE8-457C-B21A-390A4915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62CE0-4735-41E4-BBB3-37A07CC8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45F20-4D95-4AEB-8E98-4CDB9E88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E5079-1FBB-45B3-8C37-C5C54F2A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4C4A7-A965-4618-BC31-3C33C4D6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8F019-5B67-482D-9ED4-E45AFF79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5AA585-821C-4706-8A87-780C3276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DE974-606C-4540-BEC7-882E562A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09427-92C1-4B58-8723-ED82D9AD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CF9-D3DB-4BF8-BB2F-5A669205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6CCF-5C0F-4EE2-B3C2-6D6B3A0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F5A3B-B5C0-483B-B3F1-12F8581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36F40-988E-437F-BDA0-6BEB8A18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99F15-5C08-4C3D-B0FE-DD1CE597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44B1D-E9C5-4AA1-9CDA-714A2428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30D11-9F74-4106-A93F-705F2568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9698C-3BD6-4338-A51A-50BB63B2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94065-0AB0-4289-82D9-5A32DB18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4EF8D-80AA-4AE2-81DF-E238D5E2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4CB62-36F0-4B49-8A20-F7B9A9FD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04973-E038-4F0E-B284-73B0AEDA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BDE5-1AC5-405B-9F03-8FAEE38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A3BFC-45DE-49BE-AEEA-23BEBC66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997A13-712D-4FE0-A0A6-C808F198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0DA07-E806-4FB4-8190-A7BF450F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EFE75-9A72-4CD3-A456-3C8DE03A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183B3-A616-4737-ACDD-1B311F87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A215C-62A5-4099-9BFF-E3BBE1B1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3B6BE8-9856-4FEF-93B0-2058FF1B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5629E-9DBE-4224-A231-18905185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DE6C9-3FAA-44CC-9143-D18512C6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B0766-8D6D-486A-971E-EF5EE0E3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0385-CF34-4E6D-B3BE-4A24EEA5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569A2-BDB6-45ED-9C10-1FDEF8BE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AD513-7B65-42F8-9B69-63928A18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622AA-542A-4922-8D6A-56C8DB3B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7E933-7414-4F11-A9D1-E4FD7BC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C6D40-39EF-434A-B5EA-1509EBB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AE53B-DCD3-41FB-A880-95E29C1A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B6106E-3161-4C1C-AF74-124E1B4B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ADF97-5C61-4DE8-9EE1-E4098B54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EE73EE-77D7-44D5-8C7E-D1EA820E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F47AF-35A4-46C7-BADD-6521CE28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07F8-9D1B-4F4D-A543-EA7A4798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0D54D-969A-46E7-AED7-AF5F1A59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8BC0E-9BAF-4DC9-81AB-4B85A554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41F4F-6F8C-4E24-BE0B-17674218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D4BE5-6706-4E28-97D2-9262AA2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6C8EDD-9331-4130-8089-22CE2DA8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B9EF7-EC6A-4AF9-98EB-283EDFD0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0F3696-0806-4740-BCAD-4EC0948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33C9B-A8D6-428A-9B3A-464BEB2D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4254E-2F44-4484-B624-4A7B4ED7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4F58C-CAC3-4F81-92AF-72F4E85F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3080-AC7D-41D4-A66A-4362ED09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CF276-F95F-4E08-8CC1-406EEBA1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2D4EA-8E7F-4244-AFCA-B919C02E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53B16-42CE-4F4E-B591-C8A12B35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17BE1-FFF5-47CE-B070-CF8C41C9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C1943-1C3D-4B47-BD0B-6B06F48C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C8A36A-1454-42C3-B645-CC827350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3AF8D-1E25-4F72-9FD9-0FBFCAA6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864639-9FD0-4482-8B84-FD36FEA2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26D2B-09F4-4640-8825-0EF05D6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3E7611-7D6F-4A82-9B07-36E5A974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572B0-41FA-44A6-AA68-A784D0C1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1B4A66-19CA-473E-BAEE-6FC7BF73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F20D6-69C9-4D54-B338-858545FE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E2610B-C944-4B40-9B86-01621F81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80A3-054C-4489-AB64-0E56E69D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1B1C-EA78-4D8D-893B-3BF21A1F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8579-50FB-48CD-ADB7-F3EEA6D7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201E-5256-4F54-808F-EAF810A1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8A0-B664-4646-9AB8-7543671D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A7F5-3549-416D-B87C-0F1515B4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D014-841A-4C40-A296-808B8080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AF27-5B05-49D6-A6E6-386FE9B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F1BD1-069E-4510-B8E5-9316B6E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0B88-907B-4BB3-8DA1-0FD42945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3D8E-93A4-4A65-AC1C-FC6AA43F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8877-27FE-48CD-90D6-87AB75EC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0166-5A4D-475A-82E2-826FD614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E809-9965-49B0-8CE9-A22F09E2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3549-CBC9-47D2-8E19-FD127283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194-3354-46A9-871F-278EC5D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45AC2-0E3F-4C06-8AE8-6EC5BF31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F558-906F-4001-A20B-149E7D56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D617-4B4F-4E9F-A811-1DA6BD50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340B-D0BC-418D-B57C-B6936AE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E9EF-9F37-4412-B21C-711E0B05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FE25-7EC8-4BA1-AEFF-4C350102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F6FF-E608-49C6-9034-280655C2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D338F-9B77-4DC8-8569-D082B6E5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4712-67FD-497D-AC2F-B7186686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48152-9B4C-460F-B672-3ADC0859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496-FFD5-41A2-822F-96C86ADA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EAF67-F120-4C85-B79C-3A609FB8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0AA52-DD48-46AC-B537-27090DF4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D6119-9FCA-4A0F-A1DB-2EF18BE3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CAF08-6616-4B18-85D9-2D8CF64F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3335-DFE7-4723-9DD4-78383FB9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9BEE6-0918-4E68-8E0B-CBD75D1B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1AD70-4022-4B15-AA99-74C8B24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8230-DC49-4610-ACB5-2C0FEE57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F25D-9D67-47B2-87F6-05A5F4F0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2A0A1-6716-4976-AB5B-D5FD5FE7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22C-4DC2-4E5C-B3F7-E369384A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E417-9E47-43F2-B3FE-3A2C6ADF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37CAA-6F6D-480F-BFBB-35EF9CC7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1B293-39E4-4490-BDE2-E990B032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50442-84A2-4CE7-A7D8-1EFC762B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42C67-F239-4533-9FEA-AAE5CF21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E1C68-9624-4724-A99E-3E318276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79A07-1D62-44E4-828F-5C1C4104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FAFB9-5ABA-41BB-91F0-7433266E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B203F-FCC7-4E5E-9ABE-7EF772A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994F2-7D3D-4AE2-91C1-501A4174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282-80E1-4A85-B179-EE69D2E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408B0-44A1-4344-8B6C-08EB2B3B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276A-DAFE-4DEF-9E05-CB3A6DF2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4EC87-592E-406D-9DD0-B7646634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46CF3-3364-4604-8404-1A14D577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A9304-B375-41C8-A6E4-6C3CC598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7D567-91DE-4C0B-8BB6-CDE16422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25284-7631-4612-B93C-9B8E98AA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6ED33-F513-4530-A7FA-F0CB238C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5CD87-605A-4F54-A9B1-6C6C4DC9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188CF-3179-4407-A837-0169572C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9A6-45FE-4B4E-8283-B8393F48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B063A-DD0A-4637-873F-84E81A6F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886B0-1D3D-4687-B662-F3FFDAC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8F0D8-C0A4-446F-9D49-B8D933A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61CD5-4B7B-4454-B000-12429CB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A13BC-7C09-464E-820F-49314D92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54596-A53F-4A05-A266-73386C6E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2E2AA-703D-4CD3-BB99-BCFCA535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6E97D-9BBC-4D33-9F7D-0DCA4A65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B8A4F-3869-4A5D-A358-7629D31B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3B5A0-B6E0-4399-A720-01F3E7CB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D5E-71FD-4398-A92D-D3AA8A85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7D9F-3258-45E2-AA85-F9402053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C0985-08BC-4617-8157-C58295A5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CB668-F0B5-4DF6-B5A9-1B0D31A8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A37A4-2416-4E5C-97B7-D9852315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A954E-9FC5-4164-989E-7C2A1D00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EF4C0-9593-4BA2-9DA8-BA4E7945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226F9-C89B-4FFE-B3DE-3373352E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6C697-72FA-4434-9023-FCD1EAA2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1F417-A9EC-4AA0-8878-865C295B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D0078-7406-40B4-88EC-8FC1598E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D4AE-1E5F-42B7-8527-44FE32BA2F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5219-DEF7-4627-921C-D4535A568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8CCE-3512-46E9-8A9F-9EF29E3A8F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AB4B-5484-4F5A-802C-E419D0DE62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578F-C220-4030-9927-A742F80F28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41A1-E831-4532-94D0-BABB5F56A2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283E-7513-4DF3-9E8A-3541627FA7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F35D-D0E8-4BEC-AA9C-B6AD4881BF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F29-0AEF-4F8D-BA4A-27A05FD0B8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17A3-3292-4F34-9A22-96CEADF3F5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C1B7-F3F4-4C20-A660-C46A86F4E4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D87A-280A-468F-A438-430E69711F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B453-1C38-46B8-9E4D-FDE284C73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22EB-9B27-4FEA-BB55-AF8CBC45CD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47CD-F25B-48F5-884B-F5053DF7B2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01C-AFD6-4EF5-BD46-763CD4E02D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B165-2BF2-4DB2-B644-A7D10BD1D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0B1-E77A-4D93-BE79-5911C4DDB1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88AA-CEDA-4F37-B6A0-B397A361AD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E730-DAAC-41A7-B861-EC401DC990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BAC8-F501-4573-B34A-46A1669B08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6459-8F5C-4EBD-8B3C-0661355E2A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AE39-734B-440C-8072-6B8FB5729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E230-E989-4B5C-8005-F6E8F548C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7AF5-6741-42FA-B2BE-A9EEA223B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71A8-9E97-4489-A807-7225EC0DC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F643-4B74-440B-A48B-3AFC7E844E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65C5-2BAF-47CC-A333-DA021C6CDE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6B4C-64BA-42C1-8F86-A01001C99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8D7E-3AE3-40C4-8004-4527594A34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43BB-1CF6-46C5-B7E8-FEC474F51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BD9D-629C-40D2-A575-F7FCDA21E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639D-BFF6-4F76-8ACE-179EDA5C5A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591C-AC18-4F05-B197-4FE24F97A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29C8-C929-442F-BA47-312279C4B0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7728-1170-4B5D-B108-BFEEFB09A5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A20E-3B5E-4ED2-92E4-7596C0740C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C745-7629-4DAC-8BDE-BB1368BB98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3B03-3813-4BA2-87B4-E6B7F876AD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8B00-B1D4-4A59-A4C8-5EC2633AD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76600" y="3214800"/>
            <a:ext cx="37908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7600" y="1204920"/>
            <a:ext cx="8848800" cy="4448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059280" y="2421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003640" y="2852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284720" y="321300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300720" y="3213000"/>
            <a:ext cx="79236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067280" y="357336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12000" y="364500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771640" y="4479840"/>
            <a:ext cx="151308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2354400" y="5272200"/>
            <a:ext cx="1512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333360" y="2200320"/>
            <a:ext cx="8477280" cy="24573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9411" descr=""/>
          <p:cNvPicPr/>
          <p:nvPr/>
        </p:nvPicPr>
        <p:blipFill>
          <a:blip r:embed="rId2"/>
          <a:stretch/>
        </p:blipFill>
        <p:spPr>
          <a:xfrm>
            <a:off x="892080" y="2652840"/>
            <a:ext cx="7972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838080" y="947880"/>
            <a:ext cx="7467840" cy="4962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403280" y="2824200"/>
            <a:ext cx="1944720" cy="820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4859280" y="2637000"/>
            <a:ext cx="2521080" cy="1079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973240" y="54878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278320" y="54738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7567560" y="547380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5:4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